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E24-D6DF-427E-B8AF-69E55D8C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BC8-3460-4907-8992-48041B93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F83-97F0-4577-AF37-D6B39EFF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B32-7F01-4160-BE95-0F6E355F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637-D9BA-4E5A-A4C0-C494834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C3E-63E0-4646-AE56-6A2A6A2F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004-37FA-49B0-ADDD-55C787F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2D7-EBD3-4B87-B7C2-358901B6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717-2B66-480F-9ACB-034E8D06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5BA-4CC2-4182-9DE7-D03AF94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92E-E7B3-4151-A3E6-55C473D6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ECA-8BA6-4C87-9C38-6B4F0E1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919-03A3-4C07-A197-113462615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Linear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r. Clar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linea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quation has at least one variable, usually x and or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no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fractions or decimals, but the variables can not be in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Linear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(1/2)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3y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x – 4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about these equations that lets you know that they are linear? Look at the next page to answer this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s That Are Not 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  No exponents on the variables in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/x   No variables in the denominator for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 = 5   If you solve for x or y one of the variables will end up in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3:33:49Z</dcterms:created>
  <dc:creator>Preferred Customer</dc:creator>
  <dc:description/>
  <dc:language>en-US</dc:language>
  <cp:lastModifiedBy>Preferred Customer</cp:lastModifiedBy>
  <dcterms:modified xsi:type="dcterms:W3CDTF">2008-06-07T02:20:53Z</dcterms:modified>
  <cp:revision>11</cp:revision>
  <dc:subject/>
  <dc:title>Introduction to Linear Equations</dc:title>
</cp:coreProperties>
</file>